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063-9B01-4DB8-9D38-A027B967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269-4928-4A9F-9EA5-5838203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4C1-A339-46C8-AE63-9495161B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9FF-94B3-4FE5-8055-5DC0AA81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0EE-94FD-416D-80B7-8D62804A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BD5-ED82-41CF-83DA-BD2087D9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BC5-EC48-41AC-BB9A-DDD9CA9E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12E-E31E-465D-AEEB-CD57BB5E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C8A-FE49-43D3-982D-79C4B647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6B1-C41C-4E26-BCDB-F9F2B580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CF6-FEFC-45CA-AFA7-ABF77AE4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396-5220-406C-8C74-71C2BB9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0425-F0D5-4503-B0F7-86EB7D7578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1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981520" y="3970440"/>
            <a:ext cx="287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一次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241280" y="1089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2515680" y="2235240"/>
            <a:ext cx="43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何值时，这个函数是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"/>
          <p:cNvSpPr/>
          <p:nvPr/>
        </p:nvSpPr>
        <p:spPr>
          <a:xfrm>
            <a:off x="2461320" y="1754280"/>
            <a:ext cx="41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何值时，这个函数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01800" y="2778120"/>
            <a:ext cx="31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由题意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927080" y="3417840"/>
            <a:ext cx="31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85960" y="41241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由题意可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004840" y="4765680"/>
            <a:ext cx="43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-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 31"/>
          <p:cNvSpPr/>
          <p:nvPr/>
        </p:nvSpPr>
        <p:spPr>
          <a:xfrm>
            <a:off x="428760" y="930240"/>
            <a:ext cx="11080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4"/>
          <p:cNvGrpSpPr/>
          <p:nvPr/>
        </p:nvGrpSpPr>
        <p:grpSpPr>
          <a:xfrm>
            <a:off x="998640" y="1760400"/>
            <a:ext cx="6681600" cy="1488600"/>
            <a:chOff x="998640" y="1760400"/>
            <a:chExt cx="6681600" cy="1488600"/>
          </a:xfrm>
        </p:grpSpPr>
        <p:pic>
          <p:nvPicPr>
            <p:cNvPr id="155" name="Object 6" descr=""/>
            <p:cNvPicPr/>
            <p:nvPr/>
          </p:nvPicPr>
          <p:blipFill>
            <a:blip r:embed="rId1"/>
            <a:stretch/>
          </p:blipFill>
          <p:spPr>
            <a:xfrm>
              <a:off x="4071600" y="1760400"/>
              <a:ext cx="3309840" cy="6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8"/>
            <p:cNvSpPr/>
            <p:nvPr/>
          </p:nvSpPr>
          <p:spPr>
            <a:xfrm>
              <a:off x="998640" y="2057760"/>
              <a:ext cx="668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          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别为何值时，该函数是一次函数？正比例函数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3"/>
            <p:cNvSpPr/>
            <p:nvPr/>
          </p:nvSpPr>
          <p:spPr>
            <a:xfrm>
              <a:off x="1935360" y="1892880"/>
              <a:ext cx="20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关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31800" y="105732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科学研究发现，海平面以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内，海拔每升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气温下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℃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时刻，若甲地地面气温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 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高出地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处的气温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而变化的函数表达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有一架飞机飞过甲地上空，机舱内仪表显示飞机外面的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4 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飞机离地面的高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6147"/>
          <p:cNvGrpSpPr/>
          <p:nvPr/>
        </p:nvGrpSpPr>
        <p:grpSpPr>
          <a:xfrm>
            <a:off x="325440" y="246240"/>
            <a:ext cx="2516400" cy="808200"/>
            <a:chOff x="325440" y="246240"/>
            <a:chExt cx="2516400" cy="808200"/>
          </a:xfrm>
        </p:grpSpPr>
        <p:sp>
          <p:nvSpPr>
            <p:cNvPr id="161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151"/>
            <p:cNvSpPr/>
            <p:nvPr/>
          </p:nvSpPr>
          <p:spPr>
            <a:xfrm>
              <a:off x="230616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简单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816120" y="860400"/>
            <a:ext cx="76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出地面的高度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是自变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高出地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处的气温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它们之间的数量关系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甲地高出地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k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处的气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地面气温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下降的气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20 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-34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 - 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-3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此时飞机离地面的高度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68360" y="57960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边长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等边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吗？如果是，请指出相应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359400" y="2165400"/>
            <a:ext cx="2111400" cy="202392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5"/>
          <p:cNvSpPr/>
          <p:nvPr/>
        </p:nvSpPr>
        <p:spPr>
          <a:xfrm>
            <a:off x="1019160" y="2381400"/>
            <a:ext cx="47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边上的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也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边上的中线，所以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2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对象 6" descr=""/>
          <p:cNvPicPr/>
          <p:nvPr/>
        </p:nvPicPr>
        <p:blipFill>
          <a:blip r:embed="rId2"/>
          <a:stretch/>
        </p:blipFill>
        <p:spPr>
          <a:xfrm>
            <a:off x="1092240" y="4118040"/>
            <a:ext cx="4895640" cy="79056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15"/>
          <p:cNvGrpSpPr/>
          <p:nvPr/>
        </p:nvGrpSpPr>
        <p:grpSpPr>
          <a:xfrm>
            <a:off x="1025640" y="5010120"/>
            <a:ext cx="4789440" cy="741240"/>
            <a:chOff x="1025640" y="5010120"/>
            <a:chExt cx="4789440" cy="741240"/>
          </a:xfrm>
        </p:grpSpPr>
        <p:sp>
          <p:nvSpPr>
            <p:cNvPr id="172" name="文本框 7"/>
            <p:cNvSpPr/>
            <p:nvPr/>
          </p:nvSpPr>
          <p:spPr>
            <a:xfrm>
              <a:off x="1025640" y="5010120"/>
              <a:ext cx="47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对象 8" descr=""/>
            <p:cNvPicPr/>
            <p:nvPr/>
          </p:nvPicPr>
          <p:blipFill>
            <a:blip r:embed="rId3"/>
            <a:stretch/>
          </p:blipFill>
          <p:spPr>
            <a:xfrm>
              <a:off x="1517760" y="5010120"/>
              <a:ext cx="1045440" cy="74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组合 14"/>
          <p:cNvGrpSpPr/>
          <p:nvPr/>
        </p:nvGrpSpPr>
        <p:grpSpPr>
          <a:xfrm>
            <a:off x="1014480" y="5732640"/>
            <a:ext cx="4978080" cy="731520"/>
            <a:chOff x="1014480" y="5732640"/>
            <a:chExt cx="4978080" cy="731520"/>
          </a:xfrm>
        </p:grpSpPr>
        <p:sp>
          <p:nvSpPr>
            <p:cNvPr id="175" name="文本框 9"/>
            <p:cNvSpPr/>
            <p:nvPr/>
          </p:nvSpPr>
          <p:spPr>
            <a:xfrm>
              <a:off x="1014480" y="5751360"/>
              <a:ext cx="478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所以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是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一次函数，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对象 10" descr=""/>
            <p:cNvPicPr/>
            <p:nvPr/>
          </p:nvPicPr>
          <p:blipFill>
            <a:blip r:embed="rId4"/>
            <a:stretch/>
          </p:blipFill>
          <p:spPr>
            <a:xfrm>
              <a:off x="4488480" y="5732640"/>
              <a:ext cx="1504080" cy="73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对象 13" descr=""/>
          <p:cNvPicPr/>
          <p:nvPr/>
        </p:nvPicPr>
        <p:blipFill>
          <a:blip r:embed="rId5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4"/>
          <p:cNvGrpSpPr/>
          <p:nvPr/>
        </p:nvGrpSpPr>
        <p:grpSpPr>
          <a:xfrm>
            <a:off x="1017360" y="779400"/>
            <a:ext cx="3708360" cy="479160"/>
            <a:chOff x="1017360" y="779400"/>
            <a:chExt cx="3708360" cy="479160"/>
          </a:xfrm>
        </p:grpSpPr>
        <p:sp>
          <p:nvSpPr>
            <p:cNvPr id="179" name="Rectangle 4"/>
            <p:cNvSpPr/>
            <p:nvPr/>
          </p:nvSpPr>
          <p:spPr>
            <a:xfrm>
              <a:off x="1017360" y="798840"/>
              <a:ext cx="37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=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时，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对象 3" descr=""/>
            <p:cNvPicPr/>
            <p:nvPr/>
          </p:nvPicPr>
          <p:blipFill>
            <a:blip r:embed="rId1"/>
            <a:stretch/>
          </p:blipFill>
          <p:spPr>
            <a:xfrm>
              <a:off x="2597040" y="779400"/>
              <a:ext cx="477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ectangle 4"/>
          <p:cNvSpPr/>
          <p:nvPr/>
        </p:nvSpPr>
        <p:spPr>
          <a:xfrm>
            <a:off x="822240" y="1510560"/>
            <a:ext cx="71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次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1"/>
          <p:cNvGrpSpPr/>
          <p:nvPr/>
        </p:nvGrpSpPr>
        <p:grpSpPr>
          <a:xfrm>
            <a:off x="1306440" y="2309760"/>
            <a:ext cx="4790520" cy="901800"/>
            <a:chOff x="1306440" y="2309760"/>
            <a:chExt cx="4790520" cy="901800"/>
          </a:xfrm>
        </p:grpSpPr>
        <p:sp>
          <p:nvSpPr>
            <p:cNvPr id="183" name="文本框 5"/>
            <p:cNvSpPr/>
            <p:nvPr/>
          </p:nvSpPr>
          <p:spPr>
            <a:xfrm>
              <a:off x="1306440" y="2381400"/>
              <a:ext cx="479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2"/>
            <p:cNvGrpSpPr/>
            <p:nvPr/>
          </p:nvGrpSpPr>
          <p:grpSpPr>
            <a:xfrm>
              <a:off x="1417680" y="2534400"/>
              <a:ext cx="4628880" cy="478440"/>
              <a:chOff x="1417680" y="2534400"/>
              <a:chExt cx="4628880" cy="478440"/>
            </a:xfrm>
          </p:grpSpPr>
          <p:sp>
            <p:nvSpPr>
              <p:cNvPr id="185" name="Rectangle 4"/>
              <p:cNvSpPr/>
              <p:nvPr/>
            </p:nvSpPr>
            <p:spPr>
              <a:xfrm>
                <a:off x="1417680" y="2553120"/>
                <a:ext cx="46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953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    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（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2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）当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h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=      </a:t>
                </a: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时，有             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对象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6200" y="2534400"/>
                <a:ext cx="477360" cy="47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对象 9" descr=""/>
            <p:cNvPicPr/>
            <p:nvPr/>
          </p:nvPicPr>
          <p:blipFill>
            <a:blip r:embed="rId3"/>
            <a:stretch/>
          </p:blipFill>
          <p:spPr>
            <a:xfrm>
              <a:off x="4515480" y="2309760"/>
              <a:ext cx="143316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4"/>
          <p:cNvSpPr/>
          <p:nvPr/>
        </p:nvSpPr>
        <p:spPr>
          <a:xfrm>
            <a:off x="1560240" y="31993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6"/>
          <p:cNvGrpSpPr/>
          <p:nvPr/>
        </p:nvGrpSpPr>
        <p:grpSpPr>
          <a:xfrm>
            <a:off x="1421640" y="3730680"/>
            <a:ext cx="6491520" cy="901800"/>
            <a:chOff x="1421640" y="3730680"/>
            <a:chExt cx="6491520" cy="901800"/>
          </a:xfrm>
        </p:grpSpPr>
        <p:sp>
          <p:nvSpPr>
            <p:cNvPr id="190" name="Rectangle 4"/>
            <p:cNvSpPr/>
            <p:nvPr/>
          </p:nvSpPr>
          <p:spPr>
            <a:xfrm>
              <a:off x="1421640" y="398484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因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对象 21" descr=""/>
            <p:cNvPicPr/>
            <p:nvPr/>
          </p:nvPicPr>
          <p:blipFill>
            <a:blip r:embed="rId4"/>
            <a:stretch/>
          </p:blipFill>
          <p:spPr>
            <a:xfrm>
              <a:off x="3083040" y="3730680"/>
              <a:ext cx="483012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组合 27"/>
          <p:cNvGrpSpPr/>
          <p:nvPr/>
        </p:nvGrpSpPr>
        <p:grpSpPr>
          <a:xfrm>
            <a:off x="2226600" y="4683240"/>
            <a:ext cx="4446360" cy="903240"/>
            <a:chOff x="2226600" y="4683240"/>
            <a:chExt cx="4446360" cy="903240"/>
          </a:xfrm>
        </p:grpSpPr>
        <p:sp>
          <p:nvSpPr>
            <p:cNvPr id="193" name="Rectangle 4"/>
            <p:cNvSpPr/>
            <p:nvPr/>
          </p:nvSpPr>
          <p:spPr>
            <a:xfrm>
              <a:off x="2226600" y="4943880"/>
              <a:ext cx="444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95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即                      所以，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S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不是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的一次函数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对象 24" descr=""/>
            <p:cNvPicPr/>
            <p:nvPr/>
          </p:nvPicPr>
          <p:blipFill>
            <a:blip r:embed="rId5"/>
            <a:stretch/>
          </p:blipFill>
          <p:spPr>
            <a:xfrm>
              <a:off x="2294640" y="4683240"/>
              <a:ext cx="1459800" cy="90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圆角矩形 31"/>
          <p:cNvSpPr/>
          <p:nvPr/>
        </p:nvSpPr>
        <p:spPr>
          <a:xfrm>
            <a:off x="428760" y="714240"/>
            <a:ext cx="1087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647640" y="1609560"/>
            <a:ext cx="73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等腰三角形的周长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底边长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，腰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底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c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是什么？这个函数是一次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766160" y="35010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0-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是一次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60520" y="819000"/>
            <a:ext cx="7821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说法正确的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是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比例函数不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正比例函数就不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比例函数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772080" y="8190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55640" y="36370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+0.0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③y=1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     , 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是一次函数的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5996160" y="3471840"/>
            <a:ext cx="374400" cy="96984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4" descr=""/>
          <p:cNvPicPr/>
          <p:nvPr/>
        </p:nvPicPr>
        <p:blipFill>
          <a:blip r:embed="rId2"/>
          <a:stretch/>
        </p:blipFill>
        <p:spPr>
          <a:xfrm>
            <a:off x="7299360" y="3666960"/>
            <a:ext cx="650880" cy="720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1"/>
          <p:cNvSpPr/>
          <p:nvPr/>
        </p:nvSpPr>
        <p:spPr>
          <a:xfrm>
            <a:off x="3706920" y="4427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3170160" y="43164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①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838080" y="560520"/>
            <a:ext cx="7010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成正比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是什么函数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836720" y="441972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00320" y="4881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  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一次函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43120" y="30528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(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812960" y="3510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把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,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上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(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1811160" y="39672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1300320" y="5491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559320" y="5621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×2.5 - 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95160" y="28861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12"/>
          <p:cNvGrpSpPr/>
          <p:nvPr/>
        </p:nvGrpSpPr>
        <p:grpSpPr>
          <a:xfrm>
            <a:off x="2128680" y="1503360"/>
            <a:ext cx="3238560" cy="3371760"/>
            <a:chOff x="2128680" y="1503360"/>
            <a:chExt cx="3238560" cy="3371760"/>
          </a:xfrm>
        </p:grpSpPr>
        <p:grpSp>
          <p:nvGrpSpPr>
            <p:cNvPr id="217" name="组合 16"/>
            <p:cNvGrpSpPr/>
            <p:nvPr/>
          </p:nvGrpSpPr>
          <p:grpSpPr>
            <a:xfrm>
              <a:off x="2128680" y="1503360"/>
              <a:ext cx="2622600" cy="3371760"/>
              <a:chOff x="2128680" y="1503360"/>
              <a:chExt cx="2622600" cy="3371760"/>
            </a:xfrm>
          </p:grpSpPr>
          <p:sp>
            <p:nvSpPr>
              <p:cNvPr id="218" name="Text Box 4"/>
              <p:cNvSpPr/>
              <p:nvPr/>
            </p:nvSpPr>
            <p:spPr>
              <a:xfrm>
                <a:off x="2414160" y="1849320"/>
                <a:ext cx="23371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一次函数的概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8680" y="1503360"/>
                <a:ext cx="65088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4"/>
            <p:cNvSpPr/>
            <p:nvPr/>
          </p:nvSpPr>
          <p:spPr>
            <a:xfrm>
              <a:off x="2434320" y="3968640"/>
              <a:ext cx="293292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次函数的简单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1"/>
          <p:cNvGrpSpPr/>
          <p:nvPr/>
        </p:nvGrpSpPr>
        <p:grpSpPr>
          <a:xfrm>
            <a:off x="4654440" y="1203480"/>
            <a:ext cx="2946600" cy="1604880"/>
            <a:chOff x="4654440" y="1203480"/>
            <a:chExt cx="2946600" cy="1604880"/>
          </a:xfrm>
        </p:grpSpPr>
        <p:grpSp>
          <p:nvGrpSpPr>
            <p:cNvPr id="222" name="组合 16"/>
            <p:cNvGrpSpPr/>
            <p:nvPr/>
          </p:nvGrpSpPr>
          <p:grpSpPr>
            <a:xfrm>
              <a:off x="4654440" y="1203480"/>
              <a:ext cx="2622600" cy="1604880"/>
              <a:chOff x="4654440" y="1203480"/>
              <a:chExt cx="2622600" cy="1604880"/>
            </a:xfrm>
          </p:grpSpPr>
          <p:sp>
            <p:nvSpPr>
              <p:cNvPr id="223" name="Text Box 4"/>
              <p:cNvSpPr/>
              <p:nvPr/>
            </p:nvSpPr>
            <p:spPr>
              <a:xfrm>
                <a:off x="4939920" y="1203480"/>
                <a:ext cx="23371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一次函数与正比例函数的关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Object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4440" y="1339200"/>
                <a:ext cx="650880" cy="146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4"/>
            <p:cNvSpPr/>
            <p:nvPr/>
          </p:nvSpPr>
          <p:spPr>
            <a:xfrm>
              <a:off x="4960080" y="2341800"/>
              <a:ext cx="264096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次函数的解析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一次函数的概念，明确一次函数与正比例函数之间的联系与区别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用直接列式法写出一次函数的解析式，并进行相关的计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31"/>
          <p:cNvSpPr/>
          <p:nvPr/>
        </p:nvSpPr>
        <p:spPr>
          <a:xfrm>
            <a:off x="500040" y="90792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2330280" y="1238400"/>
            <a:ext cx="4483440" cy="3822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392120" y="5133960"/>
            <a:ext cx="67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写出通话费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y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通话时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x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间的函数关系式吗？它是正比例函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5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6151"/>
            <p:cNvSpPr/>
            <p:nvPr/>
          </p:nvSpPr>
          <p:spPr>
            <a:xfrm>
              <a:off x="195012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圆角矩形 31"/>
          <p:cNvSpPr/>
          <p:nvPr/>
        </p:nvSpPr>
        <p:spPr>
          <a:xfrm>
            <a:off x="357120" y="121608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73000" y="2281320"/>
            <a:ext cx="75898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有人发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~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蟋蟀每分钟鸣叫次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温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有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大约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倍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057400" y="35892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87600" y="3576600"/>
            <a:ext cx="16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≤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952560" y="1716120"/>
            <a:ext cx="543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下列各题的函数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60400" y="4046400"/>
            <a:ext cx="76741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某地电费的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W·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 请用表达式表示电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所用电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W·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86120" y="529920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0.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841320" y="1282680"/>
            <a:ext cx="75772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某城市的市内电话的月收费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包括：月租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拨打电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的计时费（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收取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952560" y="730080"/>
            <a:ext cx="8191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下列各题的函数关系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31920" y="2693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=0.1</a:t>
            </a: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+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09880" y="2693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≥ 0</a:t>
            </a:r>
            <a:r>
              <a:rPr b="0" lang="zh-CN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70040" y="3382920"/>
            <a:ext cx="79596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把一个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c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c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方形的长减少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宽不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方形的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变化而变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257200" y="468792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= -5</a:t>
            </a:r>
            <a:r>
              <a:rPr b="0" i="1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a4848"/>
                </a:solidFill>
                <a:latin typeface="Times New Roman"/>
                <a:ea typeface="黑体"/>
              </a:rPr>
              <a:t>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04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09480" y="1457280"/>
            <a:ext cx="62485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述函数有什么共同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447920" y="23716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447920" y="298116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0.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47920" y="36669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0.0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635480" y="435276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椭圆 33"/>
          <p:cNvSpPr/>
          <p:nvPr/>
        </p:nvSpPr>
        <p:spPr>
          <a:xfrm>
            <a:off x="3886200" y="1371600"/>
            <a:ext cx="762120" cy="3124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32"/>
          <p:cNvSpPr/>
          <p:nvPr/>
        </p:nvSpPr>
        <p:spPr>
          <a:xfrm>
            <a:off x="5257800" y="1523880"/>
            <a:ext cx="53352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31"/>
          <p:cNvSpPr/>
          <p:nvPr/>
        </p:nvSpPr>
        <p:spPr>
          <a:xfrm>
            <a:off x="4648320" y="1447920"/>
            <a:ext cx="30456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30"/>
          <p:cNvSpPr/>
          <p:nvPr/>
        </p:nvSpPr>
        <p:spPr>
          <a:xfrm>
            <a:off x="3200400" y="1523880"/>
            <a:ext cx="380880" cy="289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H="1">
            <a:off x="3881520" y="4191120"/>
            <a:ext cx="304560" cy="9144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2"/>
          <p:cNvSpPr/>
          <p:nvPr/>
        </p:nvSpPr>
        <p:spPr>
          <a:xfrm flipH="1">
            <a:off x="2437920" y="4495680"/>
            <a:ext cx="884520" cy="76212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4800600" y="4495680"/>
            <a:ext cx="46080" cy="68580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2135520" y="50385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3258720" y="5105520"/>
            <a:ext cx="11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6"/>
          <p:cNvSpPr/>
          <p:nvPr/>
        </p:nvSpPr>
        <p:spPr>
          <a:xfrm>
            <a:off x="4650120" y="51055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2745000" y="51148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5562720" y="4500720"/>
            <a:ext cx="46080" cy="685800"/>
          </a:xfrm>
          <a:prstGeom prst="line">
            <a:avLst/>
          </a:prstGeom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33412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常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5029200" y="5105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133720" y="16095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c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  7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2133720" y="221940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=  0.8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133720" y="2905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=  0.01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2148840" y="3591000"/>
            <a:ext cx="36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 </a:t>
            </a:r>
            <a:r>
              <a:rPr b="0" i="1" lang="en-US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   -5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066680" y="1733400"/>
            <a:ext cx="693432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43000" y="1708200"/>
            <a:ext cx="675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形如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常数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函数，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7440" y="40068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一次函数与正比例函数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38320" y="5632560"/>
            <a:ext cx="73152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正比例函数是一种特殊的一次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38320" y="44434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≠0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此时该一次函数是正比例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187280" y="13050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函数中哪些是一次函数，哪些又是正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3" descr=""/>
          <p:cNvPicPr/>
          <p:nvPr/>
        </p:nvPicPr>
        <p:blipFill>
          <a:blip r:embed="rId1"/>
          <a:stretch/>
        </p:blipFill>
        <p:spPr>
          <a:xfrm>
            <a:off x="1447920" y="2463840"/>
            <a:ext cx="1904760" cy="56520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4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2408040" cy="6098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" descr=""/>
          <p:cNvPicPr/>
          <p:nvPr/>
        </p:nvPicPr>
        <p:blipFill>
          <a:blip r:embed="rId3"/>
          <a:stretch/>
        </p:blipFill>
        <p:spPr>
          <a:xfrm>
            <a:off x="1449360" y="3301920"/>
            <a:ext cx="1766880" cy="103356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6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2633760" cy="533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514520" y="4356000"/>
            <a:ext cx="75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、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是一次函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1666800" y="510228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其中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又是正比例函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31"/>
          <p:cNvSpPr/>
          <p:nvPr/>
        </p:nvSpPr>
        <p:spPr>
          <a:xfrm>
            <a:off x="428760" y="714240"/>
            <a:ext cx="10872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4:21Z</dcterms:created>
  <dc:creator> </dc:creator>
  <dc:description> </dc:description>
  <dc:language>en-US</dc:language>
  <cp:lastModifiedBy>Administrator</cp:lastModifiedBy>
  <dcterms:modified xsi:type="dcterms:W3CDTF">2018-12-29T02:44:3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